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5B1-9C26-4A44-91FE-BF77A7D0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148-BBF9-4A23-BAED-B6D5545F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D8B-EA6D-4B39-BB6D-D7463366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38B-3435-4AB8-9792-82698755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C44-8146-47F0-91D2-33F48D83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182-E512-4A70-BA67-8747C72B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CA9-0641-4A73-8C8B-D90AA3A5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849-969D-4702-867E-F1697CF1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491-6E88-4B16-AF3E-63FDC26F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329-9862-40F2-9640-7C2C8502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CDE-0140-44FB-8E54-48E2CE85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FBB-B101-482D-9374-A8A55FA7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466E-2B8B-42BA-A1D2-C13112E9A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762120"/>
            <a:ext cx="4647960" cy="510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219320"/>
            <a:ext cx="3962520" cy="3962160"/>
          </a:xfrm>
          <a:custGeom>
            <a:avLst/>
            <a:gdLst>
              <a:gd name="textAreaLeft" fmla="*/ 256680 w 3962520"/>
              <a:gd name="textAreaRight" fmla="*/ 3705840 w 3962520"/>
              <a:gd name="textAreaTop" fmla="*/ 256680 h 3962160"/>
              <a:gd name="textAreaBottom" fmla="*/ 3705480 h 3962160"/>
            </a:gdLst>
            <a:ahLst/>
            <a:rect l="textAreaLeft" t="textAreaTop" r="textAreaRight" b="textAreaBottom"/>
            <a:pathLst>
              <a:path w="21602" h="21600">
                <a:moveTo>
                  <a:pt x="0" y="0"/>
                </a:moveTo>
                <a:lnTo>
                  <a:pt x="21602" y="0"/>
                </a:lnTo>
                <a:lnTo>
                  <a:pt x="21602" y="21600"/>
                </a:lnTo>
                <a:lnTo>
                  <a:pt x="0" y="21600"/>
                </a:lnTo>
                <a:close/>
              </a:path>
              <a:path fill="lightenLess" w="21602" h="21600">
                <a:moveTo>
                  <a:pt x="0" y="0"/>
                </a:moveTo>
                <a:lnTo>
                  <a:pt x="21602" y="0"/>
                </a:lnTo>
                <a:lnTo>
                  <a:pt x="20202" y="1400"/>
                </a:lnTo>
                <a:lnTo>
                  <a:pt x="1400" y="1400"/>
                </a:lnTo>
                <a:close/>
              </a:path>
              <a:path fill="darken" w="21602" h="21600">
                <a:moveTo>
                  <a:pt x="21602" y="0"/>
                </a:moveTo>
                <a:lnTo>
                  <a:pt x="21602" y="21600"/>
                </a:lnTo>
                <a:lnTo>
                  <a:pt x="20202" y="20200"/>
                </a:lnTo>
                <a:lnTo>
                  <a:pt x="20202" y="1400"/>
                </a:lnTo>
                <a:close/>
              </a:path>
              <a:path fill="darkenLess" w="21602" h="21600">
                <a:moveTo>
                  <a:pt x="21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2" y="20200"/>
                </a:lnTo>
                <a:close/>
              </a:path>
              <a:path fill="lighten" w="21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1219320"/>
            <a:ext cx="3962520" cy="3962160"/>
          </a:xfrm>
          <a:custGeom>
            <a:avLst/>
            <a:gdLst>
              <a:gd name="textAreaLeft" fmla="*/ 256680 w 3962520"/>
              <a:gd name="textAreaRight" fmla="*/ 3705840 w 3962520"/>
              <a:gd name="textAreaTop" fmla="*/ 256680 h 3962160"/>
              <a:gd name="textAreaBottom" fmla="*/ 3705480 h 3962160"/>
            </a:gdLst>
            <a:ahLst/>
            <a:rect l="textAreaLeft" t="textAreaTop" r="textAreaRight" b="textAreaBottom"/>
            <a:pathLst>
              <a:path w="21602" h="21600">
                <a:moveTo>
                  <a:pt x="0" y="0"/>
                </a:moveTo>
                <a:lnTo>
                  <a:pt x="21602" y="0"/>
                </a:lnTo>
                <a:lnTo>
                  <a:pt x="21602" y="21600"/>
                </a:lnTo>
                <a:lnTo>
                  <a:pt x="0" y="21600"/>
                </a:lnTo>
                <a:close/>
              </a:path>
              <a:path fill="lightenLess" w="21602" h="21600">
                <a:moveTo>
                  <a:pt x="0" y="0"/>
                </a:moveTo>
                <a:lnTo>
                  <a:pt x="21602" y="0"/>
                </a:lnTo>
                <a:lnTo>
                  <a:pt x="20202" y="1400"/>
                </a:lnTo>
                <a:lnTo>
                  <a:pt x="1400" y="1400"/>
                </a:lnTo>
                <a:close/>
              </a:path>
              <a:path fill="darken" w="21602" h="21600">
                <a:moveTo>
                  <a:pt x="21602" y="0"/>
                </a:moveTo>
                <a:lnTo>
                  <a:pt x="21602" y="21600"/>
                </a:lnTo>
                <a:lnTo>
                  <a:pt x="20202" y="20200"/>
                </a:lnTo>
                <a:lnTo>
                  <a:pt x="20202" y="1400"/>
                </a:lnTo>
                <a:close/>
              </a:path>
              <a:path fill="darkenLess" w="21602" h="21600">
                <a:moveTo>
                  <a:pt x="21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2" y="20200"/>
                </a:lnTo>
                <a:close/>
              </a:path>
              <a:path fill="lighten" w="21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3" descr=""/>
          <p:cNvPicPr/>
          <p:nvPr/>
        </p:nvPicPr>
        <p:blipFill>
          <a:blip r:embed="rId1"/>
          <a:stretch/>
        </p:blipFill>
        <p:spPr>
          <a:xfrm>
            <a:off x="685800" y="2154240"/>
            <a:ext cx="3352680" cy="2494080"/>
          </a:xfrm>
          <a:prstGeom prst="rect">
            <a:avLst/>
          </a:prstGeom>
          <a:ln w="0">
            <a:noFill/>
          </a:ln>
        </p:spPr>
      </p:pic>
      <p:pic>
        <p:nvPicPr>
          <p:cNvPr id="45" name="sq-britney-spears-stronger-cu-jve" descr=""/>
          <p:cNvPicPr/>
          <p:nvPr/>
        </p:nvPicPr>
        <p:blipFill>
          <a:blip r:embed="rId2"/>
          <a:stretch/>
        </p:blipFill>
        <p:spPr>
          <a:xfrm>
            <a:off x="5410080" y="213372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4320" y="140184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by One Mor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19200" y="14778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19720" y="685800"/>
            <a:ext cx="4647960" cy="510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219320"/>
            <a:ext cx="3962520" cy="3962160"/>
          </a:xfrm>
          <a:custGeom>
            <a:avLst/>
            <a:gdLst>
              <a:gd name="textAreaLeft" fmla="*/ 256680 w 3962520"/>
              <a:gd name="textAreaRight" fmla="*/ 3705840 w 3962520"/>
              <a:gd name="textAreaTop" fmla="*/ 256680 h 3962160"/>
              <a:gd name="textAreaBottom" fmla="*/ 3705480 h 3962160"/>
            </a:gdLst>
            <a:ahLst/>
            <a:rect l="textAreaLeft" t="textAreaTop" r="textAreaRight" b="textAreaBottom"/>
            <a:pathLst>
              <a:path w="21602" h="21600">
                <a:moveTo>
                  <a:pt x="0" y="0"/>
                </a:moveTo>
                <a:lnTo>
                  <a:pt x="21602" y="0"/>
                </a:lnTo>
                <a:lnTo>
                  <a:pt x="21602" y="21600"/>
                </a:lnTo>
                <a:lnTo>
                  <a:pt x="0" y="21600"/>
                </a:lnTo>
                <a:close/>
              </a:path>
              <a:path fill="lightenLess" w="21602" h="21600">
                <a:moveTo>
                  <a:pt x="0" y="0"/>
                </a:moveTo>
                <a:lnTo>
                  <a:pt x="21602" y="0"/>
                </a:lnTo>
                <a:lnTo>
                  <a:pt x="20202" y="1400"/>
                </a:lnTo>
                <a:lnTo>
                  <a:pt x="1400" y="1400"/>
                </a:lnTo>
                <a:close/>
              </a:path>
              <a:path fill="darken" w="21602" h="21600">
                <a:moveTo>
                  <a:pt x="21602" y="0"/>
                </a:moveTo>
                <a:lnTo>
                  <a:pt x="21602" y="21600"/>
                </a:lnTo>
                <a:lnTo>
                  <a:pt x="20202" y="20200"/>
                </a:lnTo>
                <a:lnTo>
                  <a:pt x="20202" y="1400"/>
                </a:lnTo>
                <a:close/>
              </a:path>
              <a:path fill="darkenLess" w="21602" h="21600">
                <a:moveTo>
                  <a:pt x="21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2" y="20200"/>
                </a:lnTo>
                <a:close/>
              </a:path>
              <a:path fill="lighten" w="21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219320"/>
            <a:ext cx="3962520" cy="3962160"/>
          </a:xfrm>
          <a:custGeom>
            <a:avLst/>
            <a:gdLst>
              <a:gd name="textAreaLeft" fmla="*/ 256680 w 3962520"/>
              <a:gd name="textAreaRight" fmla="*/ 3705840 w 3962520"/>
              <a:gd name="textAreaTop" fmla="*/ 256680 h 3962160"/>
              <a:gd name="textAreaBottom" fmla="*/ 3705480 h 3962160"/>
            </a:gdLst>
            <a:ahLst/>
            <a:rect l="textAreaLeft" t="textAreaTop" r="textAreaRight" b="textAreaBottom"/>
            <a:pathLst>
              <a:path w="21602" h="21600">
                <a:moveTo>
                  <a:pt x="0" y="0"/>
                </a:moveTo>
                <a:lnTo>
                  <a:pt x="21602" y="0"/>
                </a:lnTo>
                <a:lnTo>
                  <a:pt x="21602" y="21600"/>
                </a:lnTo>
                <a:lnTo>
                  <a:pt x="0" y="21600"/>
                </a:lnTo>
                <a:close/>
              </a:path>
              <a:path fill="lightenLess" w="21602" h="21600">
                <a:moveTo>
                  <a:pt x="0" y="0"/>
                </a:moveTo>
                <a:lnTo>
                  <a:pt x="21602" y="0"/>
                </a:lnTo>
                <a:lnTo>
                  <a:pt x="20202" y="1400"/>
                </a:lnTo>
                <a:lnTo>
                  <a:pt x="1400" y="1400"/>
                </a:lnTo>
                <a:close/>
              </a:path>
              <a:path fill="darken" w="21602" h="21600">
                <a:moveTo>
                  <a:pt x="21602" y="0"/>
                </a:moveTo>
                <a:lnTo>
                  <a:pt x="21602" y="21600"/>
                </a:lnTo>
                <a:lnTo>
                  <a:pt x="20202" y="20200"/>
                </a:lnTo>
                <a:lnTo>
                  <a:pt x="20202" y="1400"/>
                </a:lnTo>
                <a:close/>
              </a:path>
              <a:path fill="darkenLess" w="21602" h="21600">
                <a:moveTo>
                  <a:pt x="21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2" y="20200"/>
                </a:lnTo>
                <a:close/>
              </a:path>
              <a:path fill="lighten" w="21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3" descr=""/>
          <p:cNvPicPr/>
          <p:nvPr/>
        </p:nvPicPr>
        <p:blipFill>
          <a:blip r:embed="rId1"/>
          <a:stretch/>
        </p:blipFill>
        <p:spPr>
          <a:xfrm>
            <a:off x="685800" y="2154240"/>
            <a:ext cx="3352680" cy="2494080"/>
          </a:xfrm>
          <a:prstGeom prst="rect">
            <a:avLst/>
          </a:prstGeom>
          <a:ln w="0">
            <a:noFill/>
          </a:ln>
        </p:spPr>
      </p:pic>
      <p:pic>
        <p:nvPicPr>
          <p:cNvPr id="53" name="sq-britney-spears-stronger-cu-jve" descr=""/>
          <p:cNvPicPr/>
          <p:nvPr/>
        </p:nvPicPr>
        <p:blipFill>
          <a:blip r:embed="rId2"/>
          <a:stretch/>
        </p:blipFill>
        <p:spPr>
          <a:xfrm>
            <a:off x="5410080" y="213372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4320" y="140184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by One Mor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200" y="14778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br22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588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ff_stronger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696080" cy="5908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4T17:16:21Z</dcterms:created>
  <dc:creator>Carol Shockley</dc:creator>
  <dc:description/>
  <dc:language>en-US</dc:language>
  <cp:lastModifiedBy>Carol Shockley</cp:lastModifiedBy>
  <dcterms:modified xsi:type="dcterms:W3CDTF">2003-04-08T16:38:08Z</dcterms:modified>
  <cp:revision>3</cp:revision>
  <dc:subject/>
  <dc:title>PowerPoint Presentation</dc:title>
</cp:coreProperties>
</file>